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746-76FA-4D0A-B1A2-2B83F14F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B6B-C83A-4D0C-AA76-09B9F5E2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B4A-B87E-43A6-8BF6-FC8B1F51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072-0213-4052-B19B-43942D28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E16B-EC84-4C89-84E5-4F4F6A36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E51C-B4D8-4B96-9953-9C07A32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DA8-282C-440F-AD91-93E99946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236E-8753-4C1B-9F6B-3E5EC771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5358-E730-4AF2-AB19-21B9D0FF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80C3-6B2B-4BF5-A085-2CA9AC20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0773-B8FD-419C-9052-EB6F5F1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A76-DEC8-43EA-AAF3-ED1E4EBD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B64F-45A7-4EBE-8260-A811DE11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9F62-DEE4-4B24-8336-14B95B9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1347-F516-495E-9505-5170B5EE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12AC-BB63-4567-85F6-0C007251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DC3B-C6A2-4588-8189-BFCAF845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C4D-74FD-47F1-A4A6-D1003CE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0D5-1CEC-4F63-AD12-AFB78C1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E73-5855-4177-BD87-0C87ED8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29E-3A47-48B6-A2F0-6F0AF67C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5F7-F300-45ED-BC10-194589C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C3C-F5C7-4393-A169-FBC1804A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996-3B54-43A4-9F8B-50C3DA86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0956-B553-467D-A130-6F7B42323B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F816-FF9A-482F-945B-62CB95B3FE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La clase de espan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Br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bra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c0039"/>
                </a:solidFill>
                <a:latin typeface="comic"/>
              </a:rPr>
              <a:t>las familas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7920" y="1600200"/>
            <a:ext cx="314172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9700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comic"/>
              </a:rPr>
              <a:t>Los deporte’s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9700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utbol americ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bas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3:09Z</dcterms:created>
  <dc:creator>WSFCS Workstation</dc:creator>
  <dc:description/>
  <dc:language>en-US</dc:language>
  <cp:lastModifiedBy>WSFCS Workstation</cp:lastModifiedBy>
  <dcterms:modified xsi:type="dcterms:W3CDTF">2010-04-30T18:57:09Z</dcterms:modified>
  <cp:revision>4</cp:revision>
  <dc:subject/>
  <dc:title>La clase de espanol</dc:title>
</cp:coreProperties>
</file>